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EE97-8EDF-431F-A0AE-846DF4BA9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5419-2E2A-4F6D-A72D-A2903AA42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FC12-DCB5-4C45-852E-2DEA9FE2B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51A2-C9F1-495D-9559-2FDDD49E8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921F-B353-4638-9FD3-B01C7DBC4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9BF1-F985-4D85-BE78-7B9619738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2FAC-0A93-4ED9-A09B-56434D75A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E77C-1901-4269-B694-6FF842827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ADDB-A564-432A-B6FC-AD713C199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2638-E573-488D-87B0-77E1C67A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A52B-FB9F-4B36-A3C3-6F2A280A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FC16-626C-4E7F-A4DF-0C06AFB7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B0CC-C06E-4D8F-8777-80013D932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5920" y="3424320"/>
            <a:ext cx="431640" cy="503280"/>
          </a:xfrm>
          <a:prstGeom prst="foldedCorner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NP</a:t>
            </a:r>
            <a:r>
              <a:rPr b="0" lang="es-ES_tradnl" sz="1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2680" y="4076640"/>
            <a:ext cx="431640" cy="503280"/>
          </a:xfrm>
          <a:prstGeom prst="foldedCorner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NP</a:t>
            </a:r>
            <a:r>
              <a:rPr b="0" lang="es-ES_tradnl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78000" y="4714920"/>
            <a:ext cx="431640" cy="503280"/>
          </a:xfrm>
          <a:prstGeom prst="foldedCorner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NP</a:t>
            </a:r>
            <a:r>
              <a:rPr b="0" lang="es-ES_tradnl" sz="1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49068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69840" y="43257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66960" y="36878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24080" y="3936960"/>
            <a:ext cx="1152360" cy="657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Mobilit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Con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Generat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59120" y="4205160"/>
            <a:ext cx="884160" cy="908280"/>
          </a:xfrm>
          <a:prstGeom prst="can">
            <a:avLst>
              <a:gd name="adj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o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19280" y="4265640"/>
            <a:ext cx="30312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140360" y="4594320"/>
            <a:ext cx="863280" cy="949320"/>
          </a:xfrm>
          <a:prstGeom prst="can">
            <a:avLst>
              <a:gd name="adj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o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6861240" y="4002120"/>
            <a:ext cx="1508040" cy="493560"/>
            <a:chOff x="6861240" y="4002120"/>
            <a:chExt cx="1508040" cy="493560"/>
          </a:xfrm>
        </p:grpSpPr>
        <p:sp>
          <p:nvSpPr>
            <p:cNvPr id="52" name=""/>
            <p:cNvSpPr/>
            <p:nvPr/>
          </p:nvSpPr>
          <p:spPr>
            <a:xfrm>
              <a:off x="6861240" y="4002120"/>
              <a:ext cx="1508040" cy="4935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861240" y="4002120"/>
              <a:ext cx="1508040" cy="49356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5133960" y="3994200"/>
            <a:ext cx="1508040" cy="495000"/>
            <a:chOff x="5133960" y="3994200"/>
            <a:chExt cx="1508040" cy="495000"/>
          </a:xfrm>
        </p:grpSpPr>
        <p:sp>
          <p:nvSpPr>
            <p:cNvPr id="55" name=""/>
            <p:cNvSpPr/>
            <p:nvPr/>
          </p:nvSpPr>
          <p:spPr>
            <a:xfrm>
              <a:off x="5133960" y="3994200"/>
              <a:ext cx="1508040" cy="4950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133960" y="3994200"/>
              <a:ext cx="1508040" cy="49500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5349960" y="4091040"/>
            <a:ext cx="10936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Access Network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Select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693280" y="4013280"/>
            <a:ext cx="431640" cy="503280"/>
          </a:xfrm>
          <a:prstGeom prst="foldedCorner">
            <a:avLst>
              <a:gd name="adj" fmla="val 50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TS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8400960" y="4265280"/>
            <a:ext cx="20952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6626160" y="4262040"/>
            <a:ext cx="20952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28760" y="5164200"/>
            <a:ext cx="1646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obility Context Manager Servi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6200000">
            <a:off x="3718800" y="851760"/>
            <a:ext cx="2419200" cy="7348320"/>
          </a:xfrm>
          <a:custGeom>
            <a:avLst/>
            <a:gdLst>
              <a:gd name="textAreaLeft" fmla="*/ 118080 w 2419200"/>
              <a:gd name="textAreaRight" fmla="*/ 2301120 w 2419200"/>
              <a:gd name="textAreaTop" fmla="*/ 118080 h 7348320"/>
              <a:gd name="textAreaBottom" fmla="*/ 7230240 h 7348320"/>
            </a:gdLst>
            <a:ahLst/>
            <a:rect l="textAreaLeft" t="textAreaTop" r="textAreaRight" b="textAreaBottom"/>
            <a:pathLst>
              <a:path w="21600" h="65603">
                <a:moveTo>
                  <a:pt x="3600" y="0"/>
                </a:moveTo>
                <a:arcTo wR="3600" hR="3600" stAng="16200000" swAng="-5400000"/>
                <a:lnTo>
                  <a:pt x="0" y="62003"/>
                </a:lnTo>
                <a:arcTo wR="3600" hR="3600" stAng="10800000" swAng="-5400000"/>
                <a:lnTo>
                  <a:pt x="18000" y="656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5400000">
            <a:off x="6774480" y="2039040"/>
            <a:ext cx="927000" cy="1163520"/>
          </a:xfrm>
          <a:custGeom>
            <a:avLst/>
            <a:gdLst>
              <a:gd name="textAreaLeft" fmla="*/ 45000 w 927000"/>
              <a:gd name="textAreaRight" fmla="*/ 882000 w 927000"/>
              <a:gd name="textAreaTop" fmla="*/ 45000 h 1163520"/>
              <a:gd name="textAreaBottom" fmla="*/ 1118520 h 1163520"/>
            </a:gdLst>
            <a:ahLst/>
            <a:rect l="textAreaLeft" t="textAreaTop" r="textAreaRight" b="textAreaBottom"/>
            <a:pathLst>
              <a:path w="21600" h="27109">
                <a:moveTo>
                  <a:pt x="3600" y="0"/>
                </a:moveTo>
                <a:arcTo wR="3600" hR="3600" stAng="16200000" swAng="-5400000"/>
                <a:lnTo>
                  <a:pt x="0" y="23509"/>
                </a:lnTo>
                <a:arcTo wR="3600" hR="3600" stAng="10800000" swAng="-5400000"/>
                <a:lnTo>
                  <a:pt x="18000" y="271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Persist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Transport Servic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Configurat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(OWL-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5400000">
            <a:off x="4289040" y="2092320"/>
            <a:ext cx="855720" cy="1128600"/>
          </a:xfrm>
          <a:custGeom>
            <a:avLst/>
            <a:gdLst>
              <a:gd name="textAreaLeft" fmla="*/ 41760 w 855720"/>
              <a:gd name="textAreaRight" fmla="*/ 813960 w 855720"/>
              <a:gd name="textAreaTop" fmla="*/ 41760 h 1128600"/>
              <a:gd name="textAreaBottom" fmla="*/ 1086840 h 1128600"/>
            </a:gdLst>
            <a:ahLst/>
            <a:rect l="textAreaLeft" t="textAreaTop" r="textAreaRight" b="textAreaBottom"/>
            <a:pathLst>
              <a:path w="21600" h="28485">
                <a:moveTo>
                  <a:pt x="3600" y="0"/>
                </a:moveTo>
                <a:arcTo wR="3600" hR="3600" stAng="16200000" swAng="-5400000"/>
                <a:lnTo>
                  <a:pt x="0" y="24885"/>
                </a:lnTo>
                <a:arcTo wR="3600" hR="3600" stAng="10800000" swAng="-5400000"/>
                <a:lnTo>
                  <a:pt x="18000" y="28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Mobi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Custom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Profi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(OW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5400000">
            <a:off x="1639440" y="2146320"/>
            <a:ext cx="784080" cy="1091880"/>
          </a:xfrm>
          <a:custGeom>
            <a:avLst/>
            <a:gdLst>
              <a:gd name="textAreaLeft" fmla="*/ 38160 w 784080"/>
              <a:gd name="textAreaRight" fmla="*/ 745920 w 784080"/>
              <a:gd name="textAreaTop" fmla="*/ 38160 h 1091880"/>
              <a:gd name="textAreaBottom" fmla="*/ 1053720 h 1091880"/>
            </a:gdLst>
            <a:ahLst/>
            <a:rect l="textAreaLeft" t="textAreaTop" r="textAreaRight" b="textAreaBottom"/>
            <a:pathLst>
              <a:path w="21600" h="30075">
                <a:moveTo>
                  <a:pt x="3600" y="0"/>
                </a:moveTo>
                <a:arcTo wR="3600" hR="3600" stAng="16200000" swAng="-5400000"/>
                <a:lnTo>
                  <a:pt x="0" y="26475"/>
                </a:lnTo>
                <a:arcTo wR="3600" hR="3600" stAng="10800000" swAng="-5400000"/>
                <a:lnTo>
                  <a:pt x="18000" y="300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Mobilit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Con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Generat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(OWL-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5400000">
            <a:off x="239400" y="2082960"/>
            <a:ext cx="927000" cy="1076040"/>
          </a:xfrm>
          <a:custGeom>
            <a:avLst/>
            <a:gdLst>
              <a:gd name="textAreaLeft" fmla="*/ 45000 w 927000"/>
              <a:gd name="textAreaRight" fmla="*/ 882000 w 927000"/>
              <a:gd name="textAreaTop" fmla="*/ 45000 h 1076040"/>
              <a:gd name="textAreaBottom" fmla="*/ 1031040 h 1076040"/>
            </a:gdLst>
            <a:ahLst/>
            <a:rect l="textAreaLeft" t="textAreaTop" r="textAreaRight" b="textAreaBottom"/>
            <a:pathLst>
              <a:path w="21600" h="25071">
                <a:moveTo>
                  <a:pt x="3600" y="0"/>
                </a:moveTo>
                <a:arcTo wR="3600" hR="3600" stAng="16200000" swAng="-5400000"/>
                <a:lnTo>
                  <a:pt x="0" y="21471"/>
                </a:lnTo>
                <a:arcTo wR="3600" hR="3600" stAng="10800000" swAng="-5400000"/>
                <a:lnTo>
                  <a:pt x="18000" y="250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ahoma"/>
              </a:rPr>
              <a:t>Acces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ahoma"/>
              </a:rPr>
              <a:t>Profi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ahoma"/>
              </a:rPr>
              <a:t>(OW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5400000">
            <a:off x="5418720" y="2064600"/>
            <a:ext cx="1074600" cy="965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Acces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Network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Select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(OWL-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5400000">
            <a:off x="2983320" y="2102760"/>
            <a:ext cx="855720" cy="1107720"/>
          </a:xfrm>
          <a:custGeom>
            <a:avLst/>
            <a:gdLst>
              <a:gd name="textAreaLeft" fmla="*/ 41760 w 855720"/>
              <a:gd name="textAreaRight" fmla="*/ 813960 w 855720"/>
              <a:gd name="textAreaTop" fmla="*/ 41760 h 1107720"/>
              <a:gd name="textAreaBottom" fmla="*/ 1065960 h 1107720"/>
            </a:gdLst>
            <a:ahLst/>
            <a:rect l="textAreaLeft" t="textAreaTop" r="textAreaRight" b="textAreaBottom"/>
            <a:pathLst>
              <a:path w="21600" h="27958">
                <a:moveTo>
                  <a:pt x="3600" y="0"/>
                </a:moveTo>
                <a:arcTo wR="3600" hR="3600" stAng="16200000" swAng="-5400000"/>
                <a:lnTo>
                  <a:pt x="0" y="24358"/>
                </a:lnTo>
                <a:arcTo wR="3600" hR="3600" stAng="10800000" swAng="-5400000"/>
                <a:lnTo>
                  <a:pt x="18000" y="279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Con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Profi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(OW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639720" y="30841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000160" y="30844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395520" y="30844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697280" y="3084120"/>
            <a:ext cx="0" cy="314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5945040" y="3084120"/>
            <a:ext cx="3240" cy="825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7229520" y="3084120"/>
            <a:ext cx="0" cy="749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5400000">
            <a:off x="8050680" y="2147040"/>
            <a:ext cx="927000" cy="947880"/>
          </a:xfrm>
          <a:custGeom>
            <a:avLst/>
            <a:gdLst>
              <a:gd name="textAreaLeft" fmla="*/ 45000 w 927000"/>
              <a:gd name="textAreaRight" fmla="*/ 882000 w 927000"/>
              <a:gd name="textAreaTop" fmla="*/ 45000 h 947880"/>
              <a:gd name="textAreaBottom" fmla="*/ 902880 h 947880"/>
            </a:gdLst>
            <a:ahLst/>
            <a:rect l="textAreaLeft" t="textAreaTop" r="textAreaRight" b="textAreaBottom"/>
            <a:pathLst>
              <a:path w="21600" h="22086">
                <a:moveTo>
                  <a:pt x="3600" y="0"/>
                </a:moveTo>
                <a:arcTo wR="3600" hR="3600" stAng="16200000" swAng="-5400000"/>
                <a:lnTo>
                  <a:pt x="0" y="18486"/>
                </a:lnTo>
                <a:arcTo wR="3600" hR="3600" stAng="10800000" swAng="-5400000"/>
                <a:lnTo>
                  <a:pt x="18000" y="220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Persist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Transpor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Servic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Profi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(OW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521560" y="3086280"/>
            <a:ext cx="330480" cy="812520"/>
          </a:xfrm>
          <a:custGeom>
            <a:avLst/>
            <a:gdLst/>
            <a:ahLst/>
            <a:rect l="l" t="t" r="r" b="b"/>
            <a:pathLst>
              <a:path w="208" h="512">
                <a:moveTo>
                  <a:pt x="208" y="512"/>
                </a:moveTo>
                <a:lnTo>
                  <a:pt x="208" y="224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84520" y="3470400"/>
            <a:ext cx="376200" cy="504720"/>
          </a:xfrm>
          <a:prstGeom prst="foldedCorner">
            <a:avLst>
              <a:gd name="adj" fmla="val 50000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M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313080" y="3746520"/>
            <a:ext cx="241200" cy="419040"/>
          </a:xfrm>
          <a:custGeom>
            <a:avLst/>
            <a:gdLst/>
            <a:ahLst/>
            <a:rect l="l" t="t" r="r" b="b"/>
            <a:pathLst>
              <a:path w="152" h="264">
                <a:moveTo>
                  <a:pt x="152" y="0"/>
                </a:moveTo>
                <a:lnTo>
                  <a:pt x="0" y="64"/>
                </a:lnTo>
                <a:lnTo>
                  <a:pt x="1" y="26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48160" y="3559320"/>
            <a:ext cx="477720" cy="555480"/>
          </a:xfrm>
          <a:prstGeom prst="foldedCorner">
            <a:avLst>
              <a:gd name="adj" fmla="val 50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MC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968160" y="3986280"/>
            <a:ext cx="122904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Persist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Transport Servic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Configurat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3040" y="320040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7520" y="1700280"/>
            <a:ext cx="276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al Re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7520" y="5827680"/>
            <a:ext cx="29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Re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3360" y="1638360"/>
            <a:ext cx="9232920" cy="463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48040" y="4305240"/>
            <a:ext cx="1181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166280" y="4393800"/>
            <a:ext cx="1827000" cy="50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62465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624655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94160" y="4191120"/>
            <a:ext cx="203400" cy="380880"/>
          </a:xfrm>
          <a:custGeom>
            <a:avLst/>
            <a:gdLst/>
            <a:ahLst/>
            <a:rect l="l" t="t" r="r" b="b"/>
            <a:pathLst>
              <a:path w="128" h="240">
                <a:moveTo>
                  <a:pt x="128" y="0"/>
                </a:moveTo>
                <a:lnTo>
                  <a:pt x="0" y="128"/>
                </a:lnTo>
                <a:lnTo>
                  <a:pt x="0" y="24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360" y="6246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0520" y="62974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267440" y="52642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097680" y="1446120"/>
            <a:ext cx="2384280" cy="25084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976480" y="469800"/>
            <a:ext cx="2828880" cy="4784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0" y="649440"/>
            <a:ext cx="2867040" cy="40924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578240" y="52642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085160" y="5264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90520" y="62974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768920" y="1023840"/>
            <a:ext cx="3759120" cy="5249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06720" y="1047600"/>
            <a:ext cx="31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bility Context (ID #) Pro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96000" y="1407960"/>
            <a:ext cx="3365280" cy="1892520"/>
          </a:xfrm>
          <a:prstGeom prst="roundRect">
            <a:avLst>
              <a:gd name="adj" fmla="val 16667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906800" y="1441440"/>
            <a:ext cx="13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oS (PC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49800" y="1798560"/>
            <a:ext cx="2857680" cy="368280"/>
          </a:xfrm>
          <a:prstGeom prst="roundRect">
            <a:avLst>
              <a:gd name="adj" fmla="val 16667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1360" y="180972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oS (Acc Net ID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75360" y="2268360"/>
            <a:ext cx="2857320" cy="368640"/>
          </a:xfrm>
          <a:prstGeom prst="roundRect">
            <a:avLst>
              <a:gd name="adj" fmla="val 16667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236560" y="2279520"/>
            <a:ext cx="22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oS (Acc Net ID 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162400" y="2751120"/>
            <a:ext cx="2857680" cy="368280"/>
          </a:xfrm>
          <a:prstGeom prst="roundRect">
            <a:avLst>
              <a:gd name="adj" fmla="val 16667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223960" y="274968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oS (Acc Net ID 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984920" y="3529080"/>
            <a:ext cx="3365280" cy="1892160"/>
          </a:xfrm>
          <a:prstGeom prst="roundRect">
            <a:avLst>
              <a:gd name="adj" fmla="val 16667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95720" y="356220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 (PC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38720" y="3919680"/>
            <a:ext cx="2857680" cy="368280"/>
          </a:xfrm>
          <a:prstGeom prst="roundRect">
            <a:avLst>
              <a:gd name="adj" fmla="val 16667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00280" y="3930480"/>
            <a:ext cx="221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  (Acc Net ID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64280" y="4389480"/>
            <a:ext cx="2857320" cy="368280"/>
          </a:xfrm>
          <a:prstGeom prst="roundRect">
            <a:avLst>
              <a:gd name="adj" fmla="val 16667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25480" y="4400640"/>
            <a:ext cx="221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 (Acc Net ID 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51320" y="4871880"/>
            <a:ext cx="2857680" cy="368280"/>
          </a:xfrm>
          <a:prstGeom prst="roundRect">
            <a:avLst>
              <a:gd name="adj" fmla="val 16667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13240" y="487044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 (Acc Net ID 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496920" y="5667480"/>
            <a:ext cx="32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96920" y="5433840"/>
            <a:ext cx="32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96920" y="5910120"/>
            <a:ext cx="32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67160" y="58006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95880" y="58514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23880" y="1012680"/>
            <a:ext cx="3759120" cy="4699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26920" y="1425600"/>
            <a:ext cx="3353040" cy="466560"/>
          </a:xfrm>
          <a:prstGeom prst="roundRect">
            <a:avLst>
              <a:gd name="adj" fmla="val 16667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95800" y="1031760"/>
            <a:ext cx="32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twork Access (ID1) Pro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88400" y="1438200"/>
            <a:ext cx="231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twork Name (C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39880" y="2608200"/>
            <a:ext cx="3352680" cy="478080"/>
          </a:xfrm>
          <a:prstGeom prst="roundRect">
            <a:avLst>
              <a:gd name="adj" fmla="val 16667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46000" y="2657520"/>
            <a:ext cx="116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 (C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30160" y="3184560"/>
            <a:ext cx="3362400" cy="498600"/>
          </a:xfrm>
          <a:prstGeom prst="roundRect">
            <a:avLst>
              <a:gd name="adj" fmla="val 16667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44120" y="3254400"/>
            <a:ext cx="32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uthentication Methods (C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39880" y="3768840"/>
            <a:ext cx="3340080" cy="498240"/>
          </a:xfrm>
          <a:prstGeom prst="roundRect">
            <a:avLst>
              <a:gd name="adj" fmla="val 16667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03520" y="381312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rmediary list (C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17560" y="4352760"/>
            <a:ext cx="3378240" cy="498600"/>
          </a:xfrm>
          <a:prstGeom prst="roundRect">
            <a:avLst>
              <a:gd name="adj" fmla="val 16667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6920" y="4422600"/>
            <a:ext cx="33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ddle Boxes (C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26920" y="2044800"/>
            <a:ext cx="3365640" cy="482400"/>
          </a:xfrm>
          <a:prstGeom prst="roundRect">
            <a:avLst>
              <a:gd name="adj" fmla="val 16667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37360" y="207324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QoS (C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43120" y="4950000"/>
            <a:ext cx="3377880" cy="498240"/>
          </a:xfrm>
          <a:prstGeom prst="roundRect">
            <a:avLst>
              <a:gd name="adj" fmla="val 16667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52480" y="5019840"/>
            <a:ext cx="33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rface (C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3319560" y="2014200"/>
            <a:ext cx="1787400" cy="27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303720" y="2860560"/>
            <a:ext cx="2062080" cy="127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90520" y="62974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314360" y="2333520"/>
            <a:ext cx="190440" cy="409680"/>
          </a:xfrm>
          <a:custGeom>
            <a:avLst/>
            <a:gdLst/>
            <a:ahLst/>
            <a:rect l="l" t="t" r="r" b="b"/>
            <a:pathLst>
              <a:path w="120" h="258">
                <a:moveTo>
                  <a:pt x="0" y="0"/>
                </a:moveTo>
                <a:lnTo>
                  <a:pt x="54" y="0"/>
                </a:lnTo>
                <a:lnTo>
                  <a:pt x="120" y="25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480" y="633240"/>
            <a:ext cx="10202760" cy="56199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 flipV="1">
            <a:off x="236520" y="2112840"/>
            <a:ext cx="1081080" cy="41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 Sele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PTSC localiza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227160" y="1486080"/>
            <a:ext cx="1090440" cy="4572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bility Contex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794120" y="3739320"/>
            <a:ext cx="1114560" cy="5144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TS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490760" y="2647800"/>
            <a:ext cx="2127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3200" y="3886200"/>
            <a:ext cx="1352880" cy="20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305000" y="1714680"/>
            <a:ext cx="209520" cy="152280"/>
          </a:xfrm>
          <a:custGeom>
            <a:avLst/>
            <a:gdLst/>
            <a:ahLst/>
            <a:rect l="l" t="t" r="r" b="b"/>
            <a:pathLst>
              <a:path w="132" h="96">
                <a:moveTo>
                  <a:pt x="0" y="0"/>
                </a:moveTo>
                <a:lnTo>
                  <a:pt x="96" y="0"/>
                </a:lnTo>
                <a:lnTo>
                  <a:pt x="132" y="9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915160" y="3876840"/>
            <a:ext cx="285480" cy="218880"/>
          </a:xfrm>
          <a:custGeom>
            <a:avLst/>
            <a:gdLst/>
            <a:ahLst/>
            <a:rect l="l" t="t" r="r" b="b"/>
            <a:pathLst>
              <a:path w="180" h="138">
                <a:moveTo>
                  <a:pt x="0" y="138"/>
                </a:moveTo>
                <a:lnTo>
                  <a:pt x="42" y="138"/>
                </a:lnTo>
                <a:lnTo>
                  <a:pt x="18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4048200"/>
            <a:ext cx="149544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81560" y="1449360"/>
            <a:ext cx="119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 Advertis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59600" y="1731960"/>
            <a:ext cx="119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 Advertis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53200" y="1952640"/>
            <a:ext cx="119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 Advertis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47280" y="2741760"/>
            <a:ext cx="1480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TSP localization (Req/Rep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35120" y="3179880"/>
            <a:ext cx="93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TS 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62680" y="4576680"/>
            <a:ext cx="1611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TS Replay (PTS Profil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50680" y="5464080"/>
            <a:ext cx="269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action with Wireless Application Ser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20600" y="3052800"/>
            <a:ext cx="1128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twork Entiti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/R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19880" y="828720"/>
            <a:ext cx="133200" cy="12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327720" y="698400"/>
            <a:ext cx="3049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397400" y="519120"/>
            <a:ext cx="1306440" cy="27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712880" y="2641680"/>
            <a:ext cx="298944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90520" y="62974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977760" y="1022400"/>
            <a:ext cx="7683480" cy="481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94000" y="3514680"/>
            <a:ext cx="5386320" cy="135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400480" y="2158920"/>
            <a:ext cx="5359320" cy="125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11360" y="5111640"/>
            <a:ext cx="5240520" cy="630360"/>
          </a:xfrm>
          <a:prstGeom prst="foldedCorner">
            <a:avLst>
              <a:gd name="adj" fmla="val 731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71760" y="3570120"/>
            <a:ext cx="520380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40160" y="2300400"/>
            <a:ext cx="1141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494080" y="2629080"/>
            <a:ext cx="1677960" cy="5014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9999"/>
                </a:solidFill>
                <a:latin typeface="Arial"/>
              </a:rPr>
              <a:t>QoS Parameter Map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282920" y="2616120"/>
            <a:ext cx="1609920" cy="511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9999"/>
                </a:solidFill>
                <a:latin typeface="Arial"/>
              </a:rPr>
              <a:t>QoS Primitives Map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43040" y="3699000"/>
            <a:ext cx="1324080" cy="35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90960" y="3700440"/>
            <a:ext cx="1324080" cy="3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D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25920" y="3701880"/>
            <a:ext cx="2197080" cy="3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oS Service Provid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471760" y="4210200"/>
            <a:ext cx="5203800" cy="45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979880" y="4267080"/>
            <a:ext cx="1540080" cy="33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bility Suppor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460600" y="5062680"/>
            <a:ext cx="5221440" cy="630000"/>
          </a:xfrm>
          <a:prstGeom prst="foldedCorner">
            <a:avLst>
              <a:gd name="adj" fmla="val 272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416320" y="5045040"/>
            <a:ext cx="5173560" cy="598680"/>
          </a:xfrm>
          <a:prstGeom prst="foldedCorner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606760" y="5126040"/>
            <a:ext cx="459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ireless Link Technologies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( e.g., 802.11, UMTS, Bluetooth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448000" y="430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P (v4/v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 rot="10800000">
            <a:off x="5157720" y="1341360"/>
            <a:ext cx="259560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gacy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683160" y="2171880"/>
            <a:ext cx="24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Tahoma"/>
              </a:rPr>
              <a:t>Common QoS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9999"/>
                </a:solidFill>
                <a:latin typeface="Tahoma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2435400" y="1332000"/>
            <a:ext cx="2660040" cy="729720"/>
            <a:chOff x="2435400" y="1332000"/>
            <a:chExt cx="2660040" cy="729720"/>
          </a:xfrm>
        </p:grpSpPr>
        <p:sp>
          <p:nvSpPr>
            <p:cNvPr id="182" name=""/>
            <p:cNvSpPr/>
            <p:nvPr/>
          </p:nvSpPr>
          <p:spPr>
            <a:xfrm flipV="1" rot="10800000">
              <a:off x="2444400" y="1377000"/>
              <a:ext cx="2651040" cy="68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435400" y="1332000"/>
              <a:ext cx="2629080" cy="701640"/>
            </a:xfrm>
            <a:prstGeom prst="foldedCorner">
              <a:avLst>
                <a:gd name="adj" fmla="val 2159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oS Aware and/or Adaptabl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pplication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3328920" y="4267080"/>
            <a:ext cx="1540080" cy="33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d Hoc Rou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30840" y="4280040"/>
            <a:ext cx="943200" cy="33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073920" y="2616120"/>
            <a:ext cx="1609560" cy="511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9999"/>
                </a:solidFill>
                <a:latin typeface="Arial"/>
              </a:rPr>
              <a:t>QoS Sniffer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994360" y="2300400"/>
            <a:ext cx="1522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80240" y="3146400"/>
            <a:ext cx="199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Qo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Proces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663160" y="4626000"/>
            <a:ext cx="214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nsport Service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434960" y="2158920"/>
            <a:ext cx="825480" cy="359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16200000">
            <a:off x="697680" y="3740400"/>
            <a:ext cx="23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 rot="10800000">
            <a:off x="1436400" y="1341360"/>
            <a:ext cx="842760" cy="720720"/>
          </a:xfrm>
          <a:prstGeom prst="rect">
            <a:avLst/>
          </a:prstGeom>
          <a:gradFill rotWithShape="0">
            <a:gsLst>
              <a:gs pos="0">
                <a:srgbClr val="ff66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ex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51240" y="2502000"/>
            <a:ext cx="3479760" cy="799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615480" y="3068640"/>
            <a:ext cx="976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9999"/>
                </a:solidFill>
                <a:latin typeface="Arial"/>
              </a:rPr>
              <a:t>QoS Map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25680" y="4954680"/>
            <a:ext cx="604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040200" y="4800600"/>
            <a:ext cx="40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Tahoma"/>
              </a:rPr>
              <a:t>Enhanced Network to Wireless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9999"/>
                </a:solidFill>
                <a:latin typeface="Tahoma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880320" y="4967280"/>
            <a:ext cx="852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90520" y="62974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 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9T17:55:47Z</dcterms:created>
  <dc:creator>Iván Armuelles Voinov</dc:creator>
  <dc:description/>
  <dc:language>en-US</dc:language>
  <cp:lastModifiedBy>Iván Armuelles Voinov</cp:lastModifiedBy>
  <dcterms:modified xsi:type="dcterms:W3CDTF">2005-02-28T15:08:59Z</dcterms:modified>
  <cp:revision>39</cp:revision>
  <dc:subject/>
  <dc:title>Diapositiva 1</dc:title>
</cp:coreProperties>
</file>