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EA8-49BF-403A-BBB7-EB2EAD2C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644-C423-4ADC-B214-E6FFD730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A0D-AC90-4BFF-8D70-5868E139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51A-59E4-4823-A253-FC562C09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209-5022-4672-A342-C665F95B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707-FDC8-46EA-BB83-71CDFCB8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040-FC2C-4F34-96B0-F7574DAA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BFD-0B5F-4F47-8814-6A56A57F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CC7-38CF-41D1-9573-44A42311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F3A-50E4-4E90-AC38-B5B53EB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68C-73C1-4998-8DAC-7EAF7AAF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B5E-75BB-4E0B-8B8B-628E609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90FC-8983-4E94-999C-8AADA7B75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920" y="3424320"/>
            <a:ext cx="431640" cy="503280"/>
          </a:xfrm>
          <a:prstGeom prst="foldedCorner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NP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2680" y="4076640"/>
            <a:ext cx="431640" cy="503280"/>
          </a:xfrm>
          <a:prstGeom prst="foldedCorner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NP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" y="4714920"/>
            <a:ext cx="431640" cy="503280"/>
          </a:xfrm>
          <a:prstGeom prst="foldedCorner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NP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49068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9840" y="43257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66960" y="36878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24080" y="3936960"/>
            <a:ext cx="1152360" cy="6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obil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59120" y="4205160"/>
            <a:ext cx="884160" cy="9082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9280" y="4265640"/>
            <a:ext cx="30312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4594320"/>
            <a:ext cx="863280" cy="9493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61240" y="4002120"/>
            <a:ext cx="1508040" cy="493560"/>
            <a:chOff x="6861240" y="4002120"/>
            <a:chExt cx="1508040" cy="493560"/>
          </a:xfrm>
        </p:grpSpPr>
        <p:sp>
          <p:nvSpPr>
            <p:cNvPr id="52" name=""/>
            <p:cNvSpPr/>
            <p:nvPr/>
          </p:nvSpPr>
          <p:spPr>
            <a:xfrm>
              <a:off x="6861240" y="4002120"/>
              <a:ext cx="1508040" cy="493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61240" y="4002120"/>
              <a:ext cx="1508040" cy="4935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133960" y="3994200"/>
            <a:ext cx="1508040" cy="495000"/>
            <a:chOff x="5133960" y="3994200"/>
            <a:chExt cx="1508040" cy="495000"/>
          </a:xfrm>
        </p:grpSpPr>
        <p:sp>
          <p:nvSpPr>
            <p:cNvPr id="55" name=""/>
            <p:cNvSpPr/>
            <p:nvPr/>
          </p:nvSpPr>
          <p:spPr>
            <a:xfrm>
              <a:off x="5133960" y="3994200"/>
              <a:ext cx="1508040" cy="495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33960" y="3994200"/>
              <a:ext cx="1508040" cy="4950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349960" y="4091040"/>
            <a:ext cx="1093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ccess Networ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93280" y="4013280"/>
            <a:ext cx="431640" cy="503280"/>
          </a:xfrm>
          <a:prstGeom prst="foldedCorner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T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400960" y="4265280"/>
            <a:ext cx="2095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626160" y="4262040"/>
            <a:ext cx="2095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8760" y="5164200"/>
            <a:ext cx="164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bility Context Manager Ser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718800" y="851760"/>
            <a:ext cx="2419200" cy="7348320"/>
          </a:xfrm>
          <a:custGeom>
            <a:avLst/>
            <a:gdLst>
              <a:gd name="textAreaLeft" fmla="*/ 118080 w 2419200"/>
              <a:gd name="textAreaRight" fmla="*/ 2301120 w 2419200"/>
              <a:gd name="textAreaTop" fmla="*/ 118080 h 7348320"/>
              <a:gd name="textAreaBottom" fmla="*/ 7230240 h 7348320"/>
            </a:gdLst>
            <a:ahLst/>
            <a:rect l="textAreaLeft" t="textAreaTop" r="textAreaRight" b="textAreaBottom"/>
            <a:pathLst>
              <a:path w="21600" h="65603">
                <a:moveTo>
                  <a:pt x="3600" y="0"/>
                </a:moveTo>
                <a:arcTo wR="3600" hR="3600" stAng="16200000" swAng="-5400000"/>
                <a:lnTo>
                  <a:pt x="0" y="62003"/>
                </a:lnTo>
                <a:arcTo wR="3600" hR="3600" stAng="10800000" swAng="-5400000"/>
                <a:lnTo>
                  <a:pt x="18000" y="65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774480" y="2039040"/>
            <a:ext cx="927000" cy="1163520"/>
          </a:xfrm>
          <a:custGeom>
            <a:avLst/>
            <a:gdLst>
              <a:gd name="textAreaLeft" fmla="*/ 45000 w 927000"/>
              <a:gd name="textAreaRight" fmla="*/ 882000 w 927000"/>
              <a:gd name="textAreaTop" fmla="*/ 45000 h 1163520"/>
              <a:gd name="textAreaBottom" fmla="*/ 1118520 h 1163520"/>
            </a:gdLst>
            <a:ahLst/>
            <a:rect l="textAreaLeft" t="textAreaTop" r="textAreaRight" b="textAreaBottom"/>
            <a:pathLst>
              <a:path w="21600" h="27109">
                <a:moveTo>
                  <a:pt x="3600" y="0"/>
                </a:moveTo>
                <a:arcTo wR="3600" hR="3600" stAng="16200000" swAng="-5400000"/>
                <a:lnTo>
                  <a:pt x="0" y="23509"/>
                </a:lnTo>
                <a:arcTo wR="3600" hR="3600" stAng="10800000" swAng="-5400000"/>
                <a:lnTo>
                  <a:pt x="18000" y="27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rsis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ransport Servi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figur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(OWL-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289040" y="2092320"/>
            <a:ext cx="855720" cy="1128600"/>
          </a:xfrm>
          <a:custGeom>
            <a:avLst/>
            <a:gdLst>
              <a:gd name="textAreaLeft" fmla="*/ 41760 w 855720"/>
              <a:gd name="textAreaRight" fmla="*/ 813960 w 855720"/>
              <a:gd name="textAreaTop" fmla="*/ 41760 h 1128600"/>
              <a:gd name="textAreaBottom" fmla="*/ 1086840 h 1128600"/>
            </a:gdLst>
            <a:ahLst/>
            <a:rect l="textAreaLeft" t="textAreaTop" r="textAreaRight" b="textAreaBottom"/>
            <a:pathLst>
              <a:path w="21600" h="28485">
                <a:moveTo>
                  <a:pt x="3600" y="0"/>
                </a:moveTo>
                <a:arcTo wR="3600" hR="3600" stAng="16200000" swAng="-5400000"/>
                <a:lnTo>
                  <a:pt x="0" y="24885"/>
                </a:lnTo>
                <a:arcTo wR="3600" hR="3600" stAng="10800000" swAng="-5400000"/>
                <a:lnTo>
                  <a:pt x="18000" y="28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ob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ustom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(OW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9440" y="2146320"/>
            <a:ext cx="784080" cy="1091880"/>
          </a:xfrm>
          <a:custGeom>
            <a:avLst/>
            <a:gdLst>
              <a:gd name="textAreaLeft" fmla="*/ 38160 w 784080"/>
              <a:gd name="textAreaRight" fmla="*/ 745920 w 784080"/>
              <a:gd name="textAreaTop" fmla="*/ 38160 h 1091880"/>
              <a:gd name="textAreaBottom" fmla="*/ 1053720 h 1091880"/>
            </a:gdLst>
            <a:ahLst/>
            <a:rect l="textAreaLeft" t="textAreaTop" r="textAreaRight" b="textAreaBottom"/>
            <a:pathLst>
              <a:path w="21600" h="30075">
                <a:moveTo>
                  <a:pt x="3600" y="0"/>
                </a:moveTo>
                <a:arcTo wR="3600" hR="3600" stAng="16200000" swAng="-5400000"/>
                <a:lnTo>
                  <a:pt x="0" y="26475"/>
                </a:lnTo>
                <a:arcTo wR="3600" hR="3600" stAng="10800000" swAng="-5400000"/>
                <a:lnTo>
                  <a:pt x="18000" y="30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obil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(OWL-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39400" y="2082960"/>
            <a:ext cx="927000" cy="1076040"/>
          </a:xfrm>
          <a:custGeom>
            <a:avLst/>
            <a:gdLst>
              <a:gd name="textAreaLeft" fmla="*/ 45000 w 927000"/>
              <a:gd name="textAreaRight" fmla="*/ 882000 w 927000"/>
              <a:gd name="textAreaTop" fmla="*/ 45000 h 1076040"/>
              <a:gd name="textAreaBottom" fmla="*/ 1031040 h 1076040"/>
            </a:gdLst>
            <a:ahLst/>
            <a:rect l="textAreaLeft" t="textAreaTop" r="textAreaRight" b="textAreaBottom"/>
            <a:pathLst>
              <a:path w="21600" h="25071">
                <a:moveTo>
                  <a:pt x="3600" y="0"/>
                </a:moveTo>
                <a:arcTo wR="3600" hR="3600" stAng="16200000" swAng="-5400000"/>
                <a:lnTo>
                  <a:pt x="0" y="21471"/>
                </a:lnTo>
                <a:arcTo wR="3600" hR="3600" stAng="10800000" swAng="-5400000"/>
                <a:lnTo>
                  <a:pt x="18000" y="25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Acc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Pro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(OW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5418720" y="2064600"/>
            <a:ext cx="107460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cces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etwor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(OWL-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983320" y="2102760"/>
            <a:ext cx="855720" cy="1107720"/>
          </a:xfrm>
          <a:custGeom>
            <a:avLst/>
            <a:gdLst>
              <a:gd name="textAreaLeft" fmla="*/ 41760 w 855720"/>
              <a:gd name="textAreaRight" fmla="*/ 813960 w 855720"/>
              <a:gd name="textAreaTop" fmla="*/ 41760 h 1107720"/>
              <a:gd name="textAreaBottom" fmla="*/ 1065960 h 1107720"/>
            </a:gdLst>
            <a:ahLst/>
            <a:rect l="textAreaLeft" t="textAreaTop" r="textAreaRight" b="textAreaBottom"/>
            <a:pathLst>
              <a:path w="21600" h="27958">
                <a:moveTo>
                  <a:pt x="3600" y="0"/>
                </a:moveTo>
                <a:arcTo wR="3600" hR="3600" stAng="16200000" swAng="-5400000"/>
                <a:lnTo>
                  <a:pt x="0" y="24358"/>
                </a:lnTo>
                <a:arcTo wR="3600" hR="3600" stAng="10800000" swAng="-5400000"/>
                <a:lnTo>
                  <a:pt x="18000" y="27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(OW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39720" y="308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000160" y="30844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95520" y="30844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697280" y="30841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945040" y="3084120"/>
            <a:ext cx="3240" cy="82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229520" y="308412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8050680" y="2147040"/>
            <a:ext cx="927000" cy="947880"/>
          </a:xfrm>
          <a:custGeom>
            <a:avLst/>
            <a:gdLst>
              <a:gd name="textAreaLeft" fmla="*/ 45000 w 927000"/>
              <a:gd name="textAreaRight" fmla="*/ 882000 w 927000"/>
              <a:gd name="textAreaTop" fmla="*/ 45000 h 947880"/>
              <a:gd name="textAreaBottom" fmla="*/ 902880 h 947880"/>
            </a:gdLst>
            <a:ahLst/>
            <a:rect l="textAreaLeft" t="textAreaTop" r="textAreaRight" b="textAreaBottom"/>
            <a:pathLst>
              <a:path w="21600" h="22086">
                <a:moveTo>
                  <a:pt x="3600" y="0"/>
                </a:moveTo>
                <a:arcTo wR="3600" hR="3600" stAng="16200000" swAng="-5400000"/>
                <a:lnTo>
                  <a:pt x="0" y="18486"/>
                </a:lnTo>
                <a:arcTo wR="3600" hR="3600" stAng="10800000" swAng="-5400000"/>
                <a:lnTo>
                  <a:pt x="18000" y="22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rsis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ranspo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ervi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(OW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521560" y="3086280"/>
            <a:ext cx="330480" cy="812520"/>
          </a:xfrm>
          <a:custGeom>
            <a:avLst/>
            <a:gdLst/>
            <a:ahLst/>
            <a:rect l="l" t="t" r="r" b="b"/>
            <a:pathLst>
              <a:path w="208" h="512">
                <a:moveTo>
                  <a:pt x="208" y="512"/>
                </a:moveTo>
                <a:lnTo>
                  <a:pt x="208" y="22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4520" y="3470400"/>
            <a:ext cx="376200" cy="504720"/>
          </a:xfrm>
          <a:prstGeom prst="foldedCorner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13080" y="3746520"/>
            <a:ext cx="241200" cy="419040"/>
          </a:xfrm>
          <a:custGeom>
            <a:avLst/>
            <a:gdLst/>
            <a:ahLst/>
            <a:rect l="l" t="t" r="r" b="b"/>
            <a:pathLst>
              <a:path w="152" h="264">
                <a:moveTo>
                  <a:pt x="152" y="0"/>
                </a:moveTo>
                <a:lnTo>
                  <a:pt x="0" y="64"/>
                </a:lnTo>
                <a:lnTo>
                  <a:pt x="1" y="2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48160" y="3559320"/>
            <a:ext cx="477720" cy="555480"/>
          </a:xfrm>
          <a:prstGeom prst="foldedCorner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C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68160" y="3986280"/>
            <a:ext cx="12290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rsis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ransport Servi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figur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3040" y="32004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700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7520" y="582768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360" y="1638360"/>
            <a:ext cx="9232920" cy="463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48040" y="430524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166280" y="4393800"/>
            <a:ext cx="18270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246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2465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94160" y="4191120"/>
            <a:ext cx="203400" cy="380880"/>
          </a:xfrm>
          <a:custGeom>
            <a:avLst/>
            <a:gdLst/>
            <a:ahLst/>
            <a:rect l="l" t="t" r="r" b="b"/>
            <a:pathLst>
              <a:path w="128" h="240">
                <a:moveTo>
                  <a:pt x="128" y="0"/>
                </a:moveTo>
                <a:lnTo>
                  <a:pt x="0" y="128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624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0520" y="6297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267440" y="526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7680" y="1446120"/>
            <a:ext cx="2384280" cy="2508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76480" y="469800"/>
            <a:ext cx="2828880" cy="4784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649440"/>
            <a:ext cx="2867040" cy="409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78240" y="526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85160" y="526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0520" y="6297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768920" y="1023840"/>
            <a:ext cx="3759120" cy="5249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6720" y="104760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Context (ID #)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96000" y="1407960"/>
            <a:ext cx="3365280" cy="189252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06800" y="14414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(P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9800" y="1798560"/>
            <a:ext cx="2857680" cy="3682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1360" y="180972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(Acc Net ID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75360" y="2268360"/>
            <a:ext cx="2857320" cy="36864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36560" y="227952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(Acc Net ID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62400" y="2751120"/>
            <a:ext cx="2857680" cy="3682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23960" y="27496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(Acc Net ID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84920" y="3529080"/>
            <a:ext cx="3365280" cy="189216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95720" y="35622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(P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8720" y="3919680"/>
            <a:ext cx="2857680" cy="3682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00280" y="393048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 (Acc Net ID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64280" y="4389480"/>
            <a:ext cx="2857320" cy="3682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25480" y="44006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(Acc Net ID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1320" y="4871880"/>
            <a:ext cx="2857680" cy="3682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13240" y="48704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(Acc Net ID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96920" y="566748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96920" y="543384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96920" y="591012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67160" y="5800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95880" y="5851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3880" y="1012680"/>
            <a:ext cx="3759120" cy="469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425600"/>
            <a:ext cx="3353040" cy="46656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800" y="103176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 Access (ID1)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8400" y="14382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 Name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9880" y="2608200"/>
            <a:ext cx="3352680" cy="4780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6000" y="2657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0160" y="3184560"/>
            <a:ext cx="3362400" cy="4986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4120" y="325440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entication Methods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9880" y="3768840"/>
            <a:ext cx="3340080" cy="4982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3520" y="381312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mediary list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560" y="4352760"/>
            <a:ext cx="3378240" cy="4986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4422600"/>
            <a:ext cx="33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ddle Boxes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044800"/>
            <a:ext cx="3365640" cy="4824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7360" y="20732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oS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3120" y="4950000"/>
            <a:ext cx="3377880" cy="4982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52480" y="5019840"/>
            <a:ext cx="33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face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19560" y="2014200"/>
            <a:ext cx="178740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3720" y="2860560"/>
            <a:ext cx="2062080" cy="12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0520" y="6297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14360" y="2333520"/>
            <a:ext cx="190440" cy="409680"/>
          </a:xfrm>
          <a:custGeom>
            <a:avLst/>
            <a:gdLst/>
            <a:ahLst/>
            <a:rect l="l" t="t" r="r" b="b"/>
            <a:pathLst>
              <a:path w="120" h="258">
                <a:moveTo>
                  <a:pt x="0" y="0"/>
                </a:moveTo>
                <a:lnTo>
                  <a:pt x="54" y="0"/>
                </a:lnTo>
                <a:lnTo>
                  <a:pt x="120" y="25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80" y="633240"/>
            <a:ext cx="10202760" cy="5619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236520" y="2112840"/>
            <a:ext cx="1081080" cy="41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Se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TSC local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7160" y="1486080"/>
            <a:ext cx="1090440" cy="4572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bility Con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94120" y="3739320"/>
            <a:ext cx="1114560" cy="514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TS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90760" y="2647800"/>
            <a:ext cx="212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" y="3886200"/>
            <a:ext cx="13528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05000" y="1714680"/>
            <a:ext cx="209520" cy="152280"/>
          </a:xfrm>
          <a:custGeom>
            <a:avLst/>
            <a:gdLst/>
            <a:ahLst/>
            <a:rect l="l" t="t" r="r" b="b"/>
            <a:pathLst>
              <a:path w="132" h="96">
                <a:moveTo>
                  <a:pt x="0" y="0"/>
                </a:moveTo>
                <a:lnTo>
                  <a:pt x="96" y="0"/>
                </a:lnTo>
                <a:lnTo>
                  <a:pt x="13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15160" y="387684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lnTo>
                  <a:pt x="42" y="138"/>
                </a:lnTo>
                <a:lnTo>
                  <a:pt x="1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048200"/>
            <a:ext cx="14954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81560" y="144936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59600" y="173196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3200" y="1952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47280" y="2741760"/>
            <a:ext cx="148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TSP localization (Req/Re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5120" y="317988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TS 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2680" y="4576680"/>
            <a:ext cx="161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TS Replay (PTS Profi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0680" y="546408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on with Wireless Application Ser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20600" y="3052800"/>
            <a:ext cx="112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Entit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/R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19880" y="828720"/>
            <a:ext cx="13320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7720" y="698400"/>
            <a:ext cx="304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97400" y="519120"/>
            <a:ext cx="1306440" cy="27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12880" y="2641680"/>
            <a:ext cx="298944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0520" y="6297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77760" y="1022400"/>
            <a:ext cx="7683480" cy="481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94000" y="3514680"/>
            <a:ext cx="538632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00480" y="2158920"/>
            <a:ext cx="5359320" cy="12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1360" y="5111640"/>
            <a:ext cx="5240520" cy="630360"/>
          </a:xfrm>
          <a:prstGeom prst="foldedCorner">
            <a:avLst>
              <a:gd name="adj" fmla="val 73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71760" y="3570120"/>
            <a:ext cx="520380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0160" y="2300400"/>
            <a:ext cx="1141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94080" y="2629080"/>
            <a:ext cx="1677960" cy="501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QoS Parameter Map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2920" y="2616120"/>
            <a:ext cx="1609920" cy="511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QoS Primitives Map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43040" y="3699000"/>
            <a:ext cx="13240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0960" y="3700440"/>
            <a:ext cx="1324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25920" y="3701880"/>
            <a:ext cx="2197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oS Service Provi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71760" y="4210200"/>
            <a:ext cx="52038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9880" y="4267080"/>
            <a:ext cx="1540080" cy="33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bility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60600" y="5062680"/>
            <a:ext cx="5221440" cy="63000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6320" y="5045040"/>
            <a:ext cx="5173560" cy="598680"/>
          </a:xfrm>
          <a:prstGeom prst="foldedCorner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6760" y="512604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reless Link Technologie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 e.g., 802.11, UMTS, Bluetoot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48000" y="430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(v4/v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 rot="10800000">
            <a:off x="5157720" y="1341360"/>
            <a:ext cx="25956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acy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83160" y="217188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Common Qo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35400" y="1332000"/>
            <a:ext cx="2660040" cy="729720"/>
            <a:chOff x="2435400" y="1332000"/>
            <a:chExt cx="2660040" cy="729720"/>
          </a:xfrm>
        </p:grpSpPr>
        <p:sp>
          <p:nvSpPr>
            <p:cNvPr id="182" name=""/>
            <p:cNvSpPr/>
            <p:nvPr/>
          </p:nvSpPr>
          <p:spPr>
            <a:xfrm flipV="1" rot="10800000">
              <a:off x="2444400" y="1377000"/>
              <a:ext cx="2651040" cy="68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35400" y="1332000"/>
              <a:ext cx="2629080" cy="701640"/>
            </a:xfrm>
            <a:prstGeom prst="foldedCorner">
              <a:avLst>
                <a:gd name="adj" fmla="val 215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Aware and/or Adaptabl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ic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328920" y="4267080"/>
            <a:ext cx="1540080" cy="33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 Hoc 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30840" y="4280040"/>
            <a:ext cx="943200" cy="33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73920" y="2616120"/>
            <a:ext cx="1609560" cy="511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QoS Sniffer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94360" y="2300400"/>
            <a:ext cx="1522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80240" y="3146400"/>
            <a:ext cx="19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Qo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63160" y="4626000"/>
            <a:ext cx="21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rt 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34960" y="2158920"/>
            <a:ext cx="825480" cy="359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697680" y="374040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 rot="10800000">
            <a:off x="1436400" y="1341360"/>
            <a:ext cx="842760" cy="72072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51240" y="2502000"/>
            <a:ext cx="3479760" cy="799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15480" y="3068640"/>
            <a:ext cx="97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QoS Map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25680" y="4954680"/>
            <a:ext cx="60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0200" y="4800600"/>
            <a:ext cx="40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Enhanced Network to Wireles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80320" y="4967280"/>
            <a:ext cx="8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0520" y="6297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17:55:47Z</dcterms:created>
  <dc:creator>Iván Armuelles Voinov</dc:creator>
  <dc:description/>
  <dc:language>en-US</dc:language>
  <cp:lastModifiedBy>Iván Armuelles Voinov</cp:lastModifiedBy>
  <dcterms:modified xsi:type="dcterms:W3CDTF">2005-02-28T15:08:59Z</dcterms:modified>
  <cp:revision>39</cp:revision>
  <dc:subject/>
  <dc:title>Diapositiva 1</dc:title>
</cp:coreProperties>
</file>